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A4CA-44E2-4789-ACBD-A3C55DC31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BBB3-526E-42A1-9F50-46D7CEEE3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C5C3-1376-4E6E-9F7D-1D97FA70D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02D6-4083-4771-9612-EE8E6C628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6914A-0C85-4DDE-A514-48A3BEE90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1879F-A6FA-47A2-8DDC-535275F9C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9D164-E128-46F4-B613-8AAE58548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89E04-9C81-4667-B144-4F45C642A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DC26B-097F-4411-B003-10E47B41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92320-1F67-46E4-817C-EB725D0AE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343F1-ABCA-4E2B-A9AB-68F711B0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656E-F83C-4E5B-B08B-72A6CF0F3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DC9E7-358D-492A-9144-7FDE863C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CC8C6-26C4-4439-B1F0-6BA07EB2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88A10-6FB8-4E71-A019-CB5C1EBF2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F2A73-7AA1-4DB3-9003-E56719283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E3D12-A5B8-466A-A831-A956D371C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082E-9602-4282-92E4-C02387ABA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DEC2-9375-4A5A-B46C-F6D4F93FB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1561-3A04-4580-8022-3DF774862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770C-0E13-4CE1-B872-A182150EC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4F38-E93B-41A6-829E-6028F295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1DD7-849F-4B2B-8F1F-4E49AF81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C999-FFD5-4706-BB51-8BA349DA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A5C51-1239-40BC-82F3-C62707D13758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A4DD8-8FCD-4538-A776-50A9D42D4F1B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imple, Compound, Complex and Compound-Complex Sentences in Your Wri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mpound-Complex Sentenc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compound-complex sentence is a sentence that has at least two independent clauses and at least one dependent claus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same subordinating conjunctions are used to introduce the dependent claus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same coordinating conjunctions (FANBOYS) are used for joining the independent claus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Sample Compound-Complex Sentences.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fter the two adversaries had spent years playing this “cat and mouse” gam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eeb00b"/>
                </a:solidFill>
                <a:latin typeface="Times New Roman"/>
              </a:rPr>
              <a:t>they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99ff66"/>
                </a:solidFill>
                <a:latin typeface="Times New Roman"/>
              </a:rPr>
              <a:t>were joined by their children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and </a:t>
            </a:r>
            <a:r>
              <a:rPr b="0" lang="en-US" sz="2800" spc="-1" strike="noStrike">
                <a:solidFill>
                  <a:srgbClr val="eeb00b"/>
                </a:solidFill>
                <a:latin typeface="Times New Roman"/>
              </a:rPr>
              <a:t>the fun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99ff66"/>
                </a:solidFill>
                <a:latin typeface="Times New Roman"/>
              </a:rPr>
              <a:t>continued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ven though it seems the two were bent on the other’s destruction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eeb00b"/>
                </a:solidFill>
                <a:latin typeface="Times New Roman"/>
              </a:rPr>
              <a:t>the cat and mous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99ff66"/>
                </a:solidFill>
                <a:latin typeface="Times New Roman"/>
              </a:rPr>
              <a:t>were rather fond of one another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and </a:t>
            </a:r>
            <a:r>
              <a:rPr b="0" lang="en-US" sz="2800" spc="-1" strike="noStrike">
                <a:solidFill>
                  <a:srgbClr val="eeb00b"/>
                </a:solidFill>
                <a:latin typeface="Times New Roman"/>
              </a:rPr>
              <a:t>neither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99ff66"/>
                </a:solidFill>
                <a:latin typeface="Times New Roman"/>
              </a:rPr>
              <a:t>wanted the other’s defeat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b00b"/>
                </a:solidFill>
                <a:latin typeface="Times New Roman"/>
              </a:rPr>
              <a:t>This gam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99ff66"/>
                </a:solidFill>
                <a:latin typeface="Times New Roman"/>
              </a:rPr>
              <a:t>was begun thousands of years ago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and </a:t>
            </a:r>
            <a:r>
              <a:rPr b="0" lang="en-US" sz="2800" spc="-1" strike="noStrike">
                <a:solidFill>
                  <a:srgbClr val="eeb00b"/>
                </a:solidFill>
                <a:latin typeface="Times New Roman"/>
              </a:rPr>
              <a:t>it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99ff66"/>
                </a:solidFill>
                <a:latin typeface="Times New Roman"/>
              </a:rPr>
              <a:t>will continue far into the futur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s other cats and mice revel in hide-and-seek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Test Yourself – Simple, Compound, Complex, or Compound-Complex?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. The teacher walked into the classroom, greeted the students, and took attendance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2.When he woke up, he realized that he had overslept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3. Juan played football, yet Jim went shopping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4. Although Mexico has a better team, they lost the tournament, and their more aggressive style did not pay off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5. The island was filled with many trails winding through the thick underbrush, a small lake, and dangerous wild animal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6. Naoki passed the test because he studied hard, but Stacy did not understand the material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   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nce a writer knows the difference between the three sentence types (simple, compound, and complex), it is possible to write with sentence variety.  Sentence variety helps make your writing more interesting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imple Sentenc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simple sentence contains a subject and verb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t expresses a single complete though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simple sentence is a single independent claus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ample Simple Sentenc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b00b"/>
                </a:solidFill>
                <a:latin typeface="Times New Roman"/>
              </a:rPr>
              <a:t>The cat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99ff66"/>
                </a:solidFill>
                <a:latin typeface="Times New Roman"/>
              </a:rPr>
              <a:t>crept through the dark hous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b00b"/>
                </a:solidFill>
                <a:latin typeface="Times New Roman"/>
              </a:rPr>
              <a:t>The wary mous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99ff66"/>
                </a:solidFill>
                <a:latin typeface="Times New Roman"/>
              </a:rPr>
              <a:t>watched from underneath an upturned cereal box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b00b"/>
                </a:solidFill>
                <a:latin typeface="Times New Roman"/>
              </a:rPr>
              <a:t>The predatory cat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99ff66"/>
                </a:solidFill>
                <a:latin typeface="Times New Roman"/>
              </a:rPr>
              <a:t>stopped and surveyed his surrounding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b00b"/>
                </a:solidFill>
                <a:latin typeface="Times New Roman"/>
              </a:rPr>
              <a:t>The mous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99ff66"/>
                </a:solidFill>
                <a:latin typeface="Times New Roman"/>
              </a:rPr>
              <a:t>darted for the safety of the nearly invisible hole under the cabinet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mpound Sentenc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compound sentence contains two independent claus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junctions (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for, and, nor, but, or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, and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yet, so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) join these independent clauses. (Hint: The conjunctions spell FANBOYS.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conjunction used can impact the meaning of the sentenc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ample Compound Sentenc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1066320"/>
            <a:ext cx="76197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b00b"/>
                </a:solidFill>
                <a:latin typeface="Times New Roman"/>
              </a:rPr>
              <a:t>The cat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99ff66"/>
                </a:solidFill>
                <a:latin typeface="Times New Roman"/>
              </a:rPr>
              <a:t>was unsuccessful in his attempt to catch the mous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eb00b"/>
                </a:solidFill>
                <a:latin typeface="Times New Roman"/>
              </a:rPr>
              <a:t>the mous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99ff66"/>
                </a:solidFill>
                <a:latin typeface="Times New Roman"/>
              </a:rPr>
              <a:t>was equally as unlucky in his attempt to get the chees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b00b"/>
                </a:solidFill>
                <a:latin typeface="Times New Roman"/>
              </a:rPr>
              <a:t>The dog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99ff66"/>
                </a:solidFill>
                <a:latin typeface="Times New Roman"/>
              </a:rPr>
              <a:t>had watched all of this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eb00b"/>
                </a:solidFill>
                <a:latin typeface="Times New Roman"/>
              </a:rPr>
              <a:t>h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99ff66"/>
                </a:solidFill>
                <a:latin typeface="Times New Roman"/>
              </a:rPr>
              <a:t>had refused to become involved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b00b"/>
                </a:solidFill>
                <a:latin typeface="Times New Roman"/>
              </a:rPr>
              <a:t>The mous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99ff66"/>
                </a:solidFill>
                <a:latin typeface="Times New Roman"/>
              </a:rPr>
              <a:t>could wait until dark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eb00b"/>
                </a:solidFill>
                <a:latin typeface="Times New Roman"/>
              </a:rPr>
              <a:t>h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99ff66"/>
                </a:solidFill>
                <a:latin typeface="Times New Roman"/>
              </a:rPr>
              <a:t>could risk a daylight raid on the pantry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b00b"/>
                </a:solidFill>
                <a:latin typeface="Times New Roman"/>
              </a:rPr>
              <a:t>The cat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99ff66"/>
                </a:solidFill>
                <a:latin typeface="Times New Roman"/>
              </a:rPr>
              <a:t>usually slept during the day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yet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eb00b"/>
                </a:solidFill>
                <a:latin typeface="Times New Roman"/>
              </a:rPr>
              <a:t>curiosity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99ff66"/>
                </a:solidFill>
                <a:latin typeface="Times New Roman"/>
              </a:rPr>
              <a:t>held him at the corner of the kitchen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mplex Sentenc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complex sentence is an independent clause joined by one or more dependent claus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subordinating conjunction begins the dependent claus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dependent clause that begins a sentence must be followed by comma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dependent clause has a subject and a verb, but it does not make sense on its ow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ubordinating Conjunct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After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how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Unti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Although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if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Unles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As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in as much  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as if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in order that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as long a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At least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Whenever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as much a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now that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whereas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soon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wherever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as though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Sin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While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because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so tha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Before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even if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even though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 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thoug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ample Complex Sentenc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fter he gave it some thought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eeb00b"/>
                </a:solidFill>
                <a:latin typeface="Times New Roman"/>
              </a:rPr>
              <a:t>the mous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99ff66"/>
                </a:solidFill>
                <a:latin typeface="Times New Roman"/>
              </a:rPr>
              <a:t>decided to wait until later for his trek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b00b"/>
                </a:solidFill>
                <a:latin typeface="Times New Roman"/>
              </a:rPr>
              <a:t>The cat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99ff66"/>
                </a:solidFill>
                <a:latin typeface="Times New Roman"/>
              </a:rPr>
              <a:t>fell asleep on the warm kitchen floor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ecause he was deprived of sleep the night befor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When the mouse heard the soft snoring of his sleeping nemesis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eeb00b"/>
                </a:solidFill>
                <a:latin typeface="Times New Roman"/>
              </a:rPr>
              <a:t>h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99ff66"/>
                </a:solidFill>
                <a:latin typeface="Times New Roman"/>
              </a:rPr>
              <a:t>scurried to the pantry and grabbed enough food for a week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b00b"/>
                </a:solidFill>
                <a:latin typeface="Times New Roman"/>
              </a:rPr>
              <a:t>The dedicated, feline sleuth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99ff66"/>
                </a:solidFill>
                <a:latin typeface="Times New Roman"/>
              </a:rPr>
              <a:t>keeps his nightly vigil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ven though the foresighted mouse will not be venturing out this week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4:46:56Z</dcterms:created>
  <dc:creator>S4</dc:creator>
  <dc:description/>
  <dc:language>en-US</dc:language>
  <cp:lastModifiedBy>nbdoe</cp:lastModifiedBy>
  <dcterms:modified xsi:type="dcterms:W3CDTF">2009-03-12T12:37:31Z</dcterms:modified>
  <cp:revision>6</cp:revision>
  <dc:subject/>
  <dc:title>Simple, Compound, and Complex Sentences in Your Writing</dc:title>
</cp:coreProperties>
</file>